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10960"/>
            <a:ext cx="0" cy="6444000"/>
          </a:xfrm>
          <a:prstGeom prst="line">
            <a:avLst/>
          </a:prstGeom>
          <a:ln w="5076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87280" y="76320"/>
            <a:ext cx="7891560" cy="0"/>
          </a:xfrm>
          <a:prstGeom prst="line">
            <a:avLst/>
          </a:prstGeom>
          <a:ln w="5076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381880" y="0"/>
            <a:ext cx="781200" cy="95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Calisto MT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" name=""/>
          <p:cNvSpPr/>
          <p:nvPr/>
        </p:nvSpPr>
        <p:spPr>
          <a:xfrm>
            <a:off x="8024040" y="6294600"/>
            <a:ext cx="1677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A3A6-A7CE-4AB3-A7D5-007720C3E2B6}" type="slidenum">
              <a:rPr b="0" lang="en-US" sz="2400" spc="-1" strike="noStrike">
                <a:solidFill>
                  <a:srgbClr val="000066"/>
                </a:solidFill>
                <a:latin typeface="Century Gothic"/>
              </a:rPr>
              <a:t>&lt;number&gt;</a:t>
            </a:fld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25200" y="643896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CD2A10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entury Gothic"/>
              </a:rPr>
              <a:t>MANAGE CASUALTY SYSTEM</a:t>
            </a:r>
            <a:endParaRPr b="1" lang="en-US" sz="60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66"/>
                </a:solidFill>
                <a:uFillTx/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74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entury Gothic"/>
              </a:rPr>
              <a:t>ACTION: Manage The Casualty System</a:t>
            </a:r>
            <a:endParaRPr b="1" lang="en-US" sz="2600" spc="-1" strike="noStrike">
              <a:solidFill>
                <a:srgbClr val="000066"/>
              </a:solidFill>
              <a:latin typeface="Century Gothic"/>
            </a:endParaRPr>
          </a:p>
          <a:p>
            <a:pPr marL="474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Century Gothic"/>
            </a:endParaRPr>
          </a:p>
          <a:p>
            <a:pPr marL="474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entury Gothic"/>
              </a:rPr>
              <a:t>CONDITIONS: Given access to a casualty report, AR 600-8-1(Army Casualty Operations/ Assistance /Insurance) and FM 12-6 (Personnel Doctrine).</a:t>
            </a:r>
            <a:endParaRPr b="1" lang="en-US" sz="2600" spc="-1" strike="noStrike">
              <a:solidFill>
                <a:srgbClr val="000066"/>
              </a:solidFill>
              <a:latin typeface="Century Gothic"/>
            </a:endParaRPr>
          </a:p>
          <a:p>
            <a:pPr marL="474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Century Gothic"/>
            </a:endParaRPr>
          </a:p>
          <a:p>
            <a:pPr marL="474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entury Gothic"/>
              </a:rPr>
              <a:t>STANDARDS: </a:t>
            </a:r>
            <a:endParaRPr b="1" lang="en-US" sz="2600" spc="-1" strike="noStrike">
              <a:solidFill>
                <a:srgbClr val="000066"/>
              </a:solidFill>
              <a:latin typeface="Century Gothic"/>
            </a:endParaRPr>
          </a:p>
          <a:p>
            <a:pPr marL="474480" indent="-474480">
              <a:spcBef>
                <a:spcPts val="649"/>
              </a:spcBef>
              <a:buClr>
                <a:srgbClr val="0000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entury Gothic"/>
              </a:rPr>
              <a:t>Ensured casualty operations are properly managed at the BN,BDE,DIV,PSB,Corps, and Theatre levels.</a:t>
            </a:r>
            <a:endParaRPr b="1" lang="en-US" sz="2600" spc="-1" strike="noStrike">
              <a:solidFill>
                <a:srgbClr val="000066"/>
              </a:solidFill>
              <a:latin typeface="Century Gothic"/>
            </a:endParaRPr>
          </a:p>
          <a:p>
            <a:pPr marL="474480" indent="-474480">
              <a:spcBef>
                <a:spcPts val="649"/>
              </a:spcBef>
              <a:buClr>
                <a:srgbClr val="0000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entury Gothic"/>
              </a:rPr>
              <a:t>Performed dutied assigned by the Casualty Area Commanders (CAC).</a:t>
            </a:r>
            <a:endParaRPr b="1" lang="en-US" sz="26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Calisto MT"/>
              </a:rPr>
              <a:t>DA Form 1155 (Front)</a:t>
            </a: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52480" y="1905120"/>
          <a:ext cx="6019920" cy="46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05120"/>
                    <a:ext cx="6019920" cy="46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Calisto MT"/>
              </a:rPr>
              <a:t>DA Form 1155 (Back) </a:t>
            </a: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447920" y="2057400"/>
          <a:ext cx="59436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057400"/>
                    <a:ext cx="5943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Calisto MT"/>
              </a:rPr>
              <a:t>DA Form 1156 (Front)</a:t>
            </a: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38200" y="1644480"/>
          <a:ext cx="6410520" cy="48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8200" y="1644480"/>
                    <a:ext cx="641052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Calisto MT"/>
              </a:rPr>
              <a:t>DA Form 1156 (Back)</a:t>
            </a: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14400" y="1295280"/>
          <a:ext cx="7013520" cy="51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01352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Calisto MT"/>
              </a:rPr>
              <a:t>Flow of Casualty Info</a:t>
            </a: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295280"/>
          <a:ext cx="80056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80056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5T20:00:12Z</dcterms:created>
  <dc:creator>ADG</dc:creator>
  <dc:description/>
  <dc:language>en-US</dc:language>
  <cp:lastModifiedBy>Administrator</cp:lastModifiedBy>
  <cp:lastPrinted>1998-12-23T15:46:02Z</cp:lastPrinted>
  <dcterms:modified xsi:type="dcterms:W3CDTF">2005-07-08T12:26:10Z</dcterms:modified>
  <cp:revision>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D\CCD5H102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